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0509-BD2F-489B-89FF-7E8F4B9E8C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BF5C-07F1-43F3-951F-92722C57F8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82A1-5ECD-4334-9976-DD293EE4FA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5011-5136-418F-B553-00D1F41D78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7B27-6BB3-4D73-BF20-03563803F7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8FB2-5E27-408B-B0B4-FD6E438B2E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AA13-9A4B-47A4-B80D-A9949FACE4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38E7-8B22-49A6-9BA7-CDAB298083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C7D5-0015-4268-AFAC-EA4E586F80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106D-C4B4-4EB5-AC52-AADFB4BAB7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CE75-57AD-4904-BB95-A732AB5B53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06F3-FFED-42E8-9619-550D6908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E27-5BB1-4641-9777-36D6654E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3DDC8-AFFC-487C-AE30-A7E1C326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7F411-6F6F-4FC0-BFEC-09090726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60CBD-E60F-43B4-A97E-059A1982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70CF6-8739-466A-8B16-0023ED4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260FB-B0B7-4B3D-9CA4-2A3E1563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E7382-D520-4842-B2E9-1D966435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A0012-C1BD-41F7-85BB-B2998371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B1824-A3A6-4E2F-BB00-AE21A4E1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7A299-A929-437F-AFF7-80C16299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24A6E-C764-4BDB-B410-65613B83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D33-8F9D-4974-879E-3917E23B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56C47-62A1-44E2-8DC4-353D9A01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20B63-17B9-4058-A524-47F4CAC8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B934C-91F2-4048-BF5F-7F6E323F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03C85-ED3D-45B3-A05C-CA084F1E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CDCB0-5F48-4A38-8C64-CE48EA07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DC536-7189-4FB6-B600-943575AE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589B2-5B9A-4B89-8125-DA533FF1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B6238-D552-4719-AE3D-F38FBFC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5EC20-E0EC-4297-A632-75662915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3646A-019D-4902-9F7A-F90961B8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8FB-9B59-49EC-A47A-B0658E2F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3802B-2E27-47AC-936B-0A21E93A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785ED-3ACD-4881-B6A7-E5A83280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80BA2-2E60-4D12-AEDB-98B82806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40AAD-6A4E-4238-ACA7-7CD1C10B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07965-A71E-4307-8B6B-E8F71863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4190F-BD1A-42A0-A7AF-3C97EDAE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4823E-29CB-4A36-BB6A-63F6A36F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DFCBD-00B0-4F55-B6DA-4F547D98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54A21-0002-4AD4-9D87-F4CF8E30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3C059-E44D-405F-B1BE-0CE342E0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BC73-8CC3-4025-89A0-1A2745AB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33E80-7A62-47C2-B454-B362DCD0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BC926-83DD-4466-A5C5-2CAB12C2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18D70-954D-4DE4-9A55-D9991752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E534F-C952-4262-B834-4761A947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6F28F-661B-4D57-B132-A5384DF6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257E7-A99D-419E-B47B-6CF88BAF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81857-B078-4EF4-8B25-F1A6F1A5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C11A7-C5AC-409D-A08F-20CC45F2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70CA3-761E-4252-8DF4-AABA3F01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D1A0A-C7E0-46B8-A2D6-2EC448F1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C6B9-18D7-4917-B12D-A213DEB7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515DF-29E3-43DD-9D2A-49E42B46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FCB42-E3C7-4307-9EDB-22200D8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A9274-1CF6-4CEF-8073-8BA13F95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2D97D-BE21-4368-9FB4-5F9E6D88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0FC73-E7A9-4CBE-BD7A-D3174B23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64A9C-3F95-4A8A-A206-314CADAE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5D712-4757-4AF9-8A69-2AA7FAFA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45B7C-7BBC-4267-9515-4343A8EA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32917-663F-49F7-A9AF-13754B2B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A4E09-DCD5-4408-9104-BA71D3AC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BE17-B45C-448F-AA3F-959EDAD8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99248-EE18-493B-AD0D-87997A1C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D4E27-064F-4E62-AD45-C331B0D6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C74D9-30DA-47FC-89B6-0C161C85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6F37F-E0CD-4E3B-B341-42B6DACB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E6D19-845A-4CCB-BD99-7C6FDC46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278FA-A081-4A2D-8E3B-2AE8D334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888F5-98E9-418F-BDF0-F9030B2E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24C3-4A1E-47A3-9C2F-F295DCB1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4949-76AC-4F04-829F-99B25E86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3BF1-06CC-4699-86B4-0B5685B2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6042-B072-4B4B-9F13-B01CD74F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E998-D5E4-4AD8-9814-3D2E4337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20F1-4FEE-4AE2-B317-5C858F6F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5475-5209-4596-A1FC-7CE9A23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0E00-B096-4EE0-8873-75889A45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6590-B0CA-4814-8662-5D4CB0A6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35EA-C259-41C2-B2A6-5AF03F7E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0974-A0B7-4825-A223-2BF4253F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8F73-46FC-4A6A-A373-D30E0C8D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E3BDD-3191-4C04-BD19-E165D021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B58B-4711-4072-AF8F-2996052F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480AD-8F8A-4F6B-99F8-B0E246F3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76B-7DC3-49AB-BDD8-3D1C4694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AA1B-BFE1-47AD-AD22-1763423A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D106-A4EB-4A4F-B8E6-C0593A0C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AA0D-51DC-42A6-BE13-AF14C04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4920-803F-4DA2-AB82-F6D70242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5682C-3FE1-434B-B043-8F54046A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579D-6845-4133-993F-F628D5B5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58CA-77D0-477B-8119-D5B834E6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08217-0AF6-47C5-A302-B331906D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5130C-DAE5-4260-BF19-B16EDC2B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7DCC0-73E4-4580-BECE-47916100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662-D1BE-44BA-8635-51DFD20A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D552D-6678-4510-8AE5-B0637C27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9B41-B078-4842-8E52-9EB96A88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3966-5A7F-420C-8995-87C80ACA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B5A6-B5EC-45C6-BB67-95758D7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F0FA-6D91-4055-9700-ADD7E85B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39FB7-1FBE-4F7B-A196-E042E19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E3D27-E361-4A36-AB9B-4D622215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ABE3C-A237-4235-9E92-22D4F74E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095B-F6FE-47E8-81BA-DD618625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5A27E-2948-486A-92F5-1B5A1C62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B83-4919-455A-8A7A-1C09541C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597E-51C8-48B5-AE4F-50F95190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EF2F8-D427-4C77-8CED-047DED14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82D81-1817-495B-A7C9-95F175AB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E53BD-BD4E-431F-BF25-EB1AFD2E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B442-33B7-4153-B0E6-2ABDAF1F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0BDD4-C2D4-4BA6-8F63-03B95714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F699E-13E7-4716-89CE-CAD648C1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EC272-733B-4820-941C-7DE9D917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6C7EC-2976-47B2-A466-D094EF10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8CAA0-582D-4DAC-9AD4-27B60260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5B0-5C8B-4EBF-83B6-24BBBD22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C6B14-A71D-450B-AAEF-9949CEC6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D3830-F3E9-4EBB-96CF-059804FA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EE740-9A66-4738-937E-4641E374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469AA-2FBA-4B35-AD9C-12F866E7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DD8D-255A-486C-BF83-BA4F4A97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EFF7C-5BC0-4E9E-9506-A3F0C38F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03847-610C-40BA-8E6B-407D2AAC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BE954-F1E5-4FA9-AD3F-A3DAF3C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197D2-6382-4400-A5E8-C10E926B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13512-4D8D-40F6-B12B-02B252D4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C29-B793-4509-A7E9-9BC36350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0DBD7-46D8-4EA3-8BD7-CB03E2FC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765A-6390-401A-B8C8-17DBD34C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2D893-35DC-4575-B2C9-9ED7C123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5CFAB-9F83-4372-8FED-D81CB78F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611D2-668C-4E1F-8D71-011EE354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4931E-01F6-4823-B1E8-0427EF42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DABE3-6D59-4FFC-A6D5-A79D9A08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F8210-22AD-4E2F-94C3-9DDD34ED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A939C-30F2-411F-86C5-AFD6BC4E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FDDEF-555E-4FB4-9007-702AF457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82A-74D0-4825-BF0A-5EE8650E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75D36-63D1-4983-A0AE-B6AEDCEA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B4BE5-22A8-436B-8B24-4267CCF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1DE8B-644E-4D1B-89E3-B30B2802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1487D-45D2-4F27-81D8-8FDAC0D1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AA71-410D-41D9-ABEB-0F9CC8AE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F985A-CCF3-467D-9B6D-2AEB5E90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01CA1-3F9A-4A92-91AC-FB69635C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58002-FBA5-4666-92C6-94B65B49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4F73E-0078-4863-A0A2-EBBA0658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D6CF5-FEFC-41E6-BF9F-BBC2F934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475-BE32-4755-A8B7-70451BF4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840C4-DB70-4E59-9E19-470F7DBA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9F156-1998-4378-AD05-A3DDD851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D5EB5-0217-4508-B61E-1634DCFA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81AE-8D2C-4505-A80F-D3B1488D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2646-46A8-4B02-9B72-6696E989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DCB94-7B3C-4A1F-9088-FFFA4604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B0D5E-2BCA-4B03-BB3E-956948D0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0F575-3A8E-4A50-A267-35AE42B5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6D878-F23C-4A10-917A-71A596DE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C9946-0DD4-481D-9A4E-52E331E8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848E-1EDE-4F66-91FC-84159D94DF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8979-E5D4-4257-B763-4B94FB0DBE0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6FC-3DB8-4F04-AC65-0BA66309795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18AC-EF24-4CBF-8044-5A39AEB4943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A393-18B6-43A9-A07D-0BB6EBA608C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36EC-343F-46F6-8678-D60FB95F9DB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51E-33E3-4B8D-A77C-7D8625854FE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C90-340A-42E8-8648-6C50D7B99ED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21D1-6142-4C98-B703-25DCC286EE4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8ACB-2632-4A74-B58C-44CF0EB59B4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8F62-36DD-430B-9863-619080EF0B0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7E14-9319-40AE-883A-16BFD1FDF74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5DD2-2000-4088-AD44-828600075A1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900000" y="404640"/>
          <a:ext cx="6189840" cy="484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618984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предмету «Окружающий мир» 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Золотухина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71»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124000" y="324468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авальнюк Л.Год-пароход М.:Омега, 2001.-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исунок корабл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ww.weblanc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од?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гром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ранный пароход, необыч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лывёт не по воде он, он по времени плы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12224" r="0" b="12224"/>
          <a:stretch/>
        </p:blipFill>
        <p:spPr>
          <a:xfrm>
            <a:off x="2627280" y="126828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121200" cy="1152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жит пред ним зи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ом инее дом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679640" cy="511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2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7560" cy="117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по весн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капели в ти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679920" y="765000"/>
            <a:ext cx="5068800" cy="4819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67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0894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через ле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вся земля сог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52563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328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вё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ки в небе, дожд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4968720" cy="489744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55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он плывёт и днё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лит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что мы зов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МИ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2305080" cy="202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2879640" cy="2300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 rot="20667600">
            <a:off x="533160" y="968040"/>
            <a:ext cx="5846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в России, как и во всём м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ён года – четы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200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ВЕСНА, ЛЕТО,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ОГДА У ТЕБЯ ДЕНЬ РОЖДЕ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ИМОЙ    ВЕСНОЙ    ЛЕТОМ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 КОГДА ДЕНЬ РОЖДЕНИЯ У Г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ОМ       ОСЕНЬЮ     ВЕСНОЙ  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ГДА ЗВЕРИ ЗАПАСАЮТ ПРОДУКТЫ НА ЗИ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ЕСНОЙ                                  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В КАКОЕ ВРЕМЯ ГОДА ЦВЕТУТ САД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ИМОЙ    ЛЕТОМ            ВЕСНОЙ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ТЫ ЗНАЕШЬ ВРЕМЁН ГОДА И КАК О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ЮТС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7:01:39Z</dcterms:created>
  <dc:creator>Сергей</dc:creator>
  <dc:description/>
  <dc:language>en-US</dc:language>
  <cp:lastModifiedBy>Сергей</cp:lastModifiedBy>
  <dcterms:modified xsi:type="dcterms:W3CDTF">2013-06-04T17:34:40Z</dcterms:modified>
  <cp:revision>19</cp:revision>
  <dc:subject/>
  <dc:title>Слайд 1</dc:title>
</cp:coreProperties>
</file>